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289-333C-4202-A536-542F9A05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CAD-AF45-47B7-B185-11070380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8AA-6114-40B8-A9AA-2A2C4704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CEF-8D0E-4CB3-B47D-8CE4AF02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10C0-E18D-40A2-BF07-2DB17D1A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B5AF-A5FD-4A17-A5D4-9C403B8E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B8F7-15E9-43D6-880A-68BABB4C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0DCC-8FA4-4645-87E3-B95773C7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8916-6FE4-43FD-AE48-AC0DD49C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DC57-CAF7-45B0-B0DE-19186B64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7DC5-5720-4420-A33A-6588CD5E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4D3-3D02-46A8-B16C-C78EA7D0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17EF-661A-4AB8-BA30-71E9322D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42D6-FF8E-4707-A1FF-E61D141B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A0E4-9BB4-4D06-B533-70C3F1B6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CCE3-5C94-4958-8DE3-A3B0AE2E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1822-10D6-40BD-9745-FE6B1190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03F-BAF8-494B-9596-45DFCDEF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955-1D9F-47DF-90B4-E4962D47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1DEC-6CD5-4265-862C-684E52A7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C22-B8EB-4347-8CD9-59FC87F2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070-C55A-460D-BB7B-50FA093B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D47-DABF-4E80-B896-B6DCBB9B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89E-B391-4A11-8880-ED1487C4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556A-40D0-45CF-9954-F1D470EBCD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7503-79F7-4E1C-B1AB-F6C4B51C1E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142640"/>
            <a:ext cx="63435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3714840"/>
            <a:ext cx="5400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85520" y="1643040"/>
            <a:ext cx="8157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142800" y="1428480"/>
            <a:ext cx="5800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oderntheorie.com/wp-content/uploads/2010/11/E-mail-is-very-important-to-the-Company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nppbillon.ru/images/e-mail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1500120" y="142884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e-mail.png"/>
          <p:cNvPicPr/>
          <p:nvPr/>
        </p:nvPicPr>
        <p:blipFill>
          <a:blip r:embed="rId3"/>
          <a:stretch/>
        </p:blipFill>
        <p:spPr>
          <a:xfrm>
            <a:off x="1571760" y="3071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7:55:38Z</dcterms:created>
  <dc:creator>Comp</dc:creator>
  <dc:description/>
  <dc:language>en-US</dc:language>
  <cp:lastModifiedBy>Comp</cp:lastModifiedBy>
  <dcterms:modified xsi:type="dcterms:W3CDTF">2011-07-27T08:00:47Z</dcterms:modified>
  <cp:revision>1</cp:revision>
  <dc:subject/>
  <dc:title>Слайд 1</dc:title>
</cp:coreProperties>
</file>